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3AF-9BDB-4D68-8A14-F1A31FC7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840-0D33-4F58-ADEE-6F4F0CB1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09AEC-4E64-478D-9754-9FDAB1EC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3B04E-3AD6-4CB9-A752-4DC558B3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DE45E-AEE3-4CF4-AF33-9655FC5B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419F0-54D9-490C-8393-0C8F94E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CAF1C-4B6A-48C0-8F12-B9FC1B0A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E72EB-DFEF-4785-9B80-5DC6AE3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A1384-3261-4C20-9E82-0DAB0D19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F5947-4690-4B96-8DB1-4018D8BA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D4551-B3EC-4173-9FF5-BF182258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21EB8-CD84-40F3-A5EF-7EC32974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478-B896-43DF-BC0E-F9702BEC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7952D-B22D-4C19-8496-D8884EBB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72733-D3C1-45EB-8FF7-E5401DB7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C831D-DAFE-493B-B4F1-624A096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5DE94-63B4-48C8-B52F-5A357A38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CE3B5-39D3-4C8F-A419-6BC59120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A42A6-3CF5-44FB-976D-1D186EC7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08478-9705-4600-B8CA-7BA1D1D3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7BAA1-3046-417F-B563-DCFAAAC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8AA1F-64C8-4FA4-B119-87B0A3FC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AACB1-726F-402C-AE71-5CF0AE9A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618-8167-4299-86B0-236BE532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97C02-9CEF-4DE8-A090-6EE3C34E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DAE6D-86CC-4B27-9B2E-D4B2FBBC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E19D4-6B05-4C0E-8BC3-DFBE168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76EDB-EE99-4BD0-A918-675EC3CF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A2E82-CFD2-4515-B4EB-FBB0FD42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2F9B0-58A3-4B08-9E56-72920A9D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7B91A-C07C-47B5-A00F-1DA7EF0E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2B42E-0FF2-4F17-9DC9-EB6532B7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E4AA5-28DF-4816-B846-2958BCBF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34AF0-718E-4E57-8F1E-3F284F5F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AB3D-6472-47FE-92CE-748038A5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FC311-B561-40D1-8477-30C7E25A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B0609-511E-4179-B07C-75DCC215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47C8E-9ABE-4FA0-83DB-FE1CC3EA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3D74E-7AA7-4A5A-BAFB-11C207D4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F89D3-4791-43F5-93FA-9D391731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1F242-83B2-46A4-9D16-4287E967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F156C-88DC-472D-BE2B-C810D2E4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300BC-0555-46AC-B80D-44157746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129D3-6EBF-4F4F-9134-4926C746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FF77B-0EA7-4CCD-AFF1-A3145E5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4D24-E06D-44E5-B8AE-EC6DA95A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0048F-DA7F-4175-8D5F-ED5382D3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0018E-3BB2-462A-94EB-53F4E957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C24E9-90B2-4E4B-AF7B-3DC63983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E0CA5-92DA-4B3E-A620-5D8183CA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ECAE6-28D1-4692-ABFF-651932FB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F2E25-C0B0-4F86-B782-73F286CD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BFCBF-006A-4423-B249-DE78BF22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9CCA1-384C-4463-90E9-957FDC44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581EC-9D07-4287-BDC7-A9B26E27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8FAE4-00D8-4249-A962-755B0693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B49B-8C96-410A-B109-7F2A7067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B4A3B-12B0-4ACE-BF6D-CC15C59C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895D1-460E-47FA-9516-572ACCD1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40B2D-4828-4BFA-87CE-6ACD301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A771F-61CA-4B8C-946B-E16D35D0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D73EC-3E0E-4201-9BE2-59A2BBC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30156-4471-4F59-9B41-0F75732E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8CAC2-FFB3-45A9-B097-4B7C3C4F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9E7BD-B537-4FE3-95F0-A0FB7578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44A72-60C7-4082-AC71-ABD4C402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084A1-102E-4F1A-A319-62BEDD24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9F00-7135-4C21-858C-4E8D7AD2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71E28-63E9-4425-8DDB-C55B988B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17ECB-AE82-4850-81C7-DBE0AAA4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17AAB-1A8F-401B-9319-38BEC789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1756F-71C4-490B-B817-856EF2BF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9BE0C-F759-4AB9-A4A9-DFC41DA4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455E6-DE88-4048-96E7-D0B7056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224CD-805C-4FB1-994E-5066CF71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344EC-6F8A-43DF-A3C1-372954DB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7665C-3073-45CE-ABA0-ECEB841B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C28EA-7E7B-4DE2-8AF0-F1166A05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4293-C5DC-4754-8E11-081B53EE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0747C-D315-42B1-9D18-88B3CF38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FF500-708C-4BDC-950E-903F88AA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687AC-A212-4EDD-B0B0-3EF5D45B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5C494-9758-4181-8405-D706CEFF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77F41-DD8D-47A3-848D-9F480B40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8A657-2A04-4890-8BF7-F46DE789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71954-4DB7-48F0-87E2-A67E8CF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8764E-A7C6-4BC6-A608-9725D7A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14721-84F1-40D1-92AF-87BE7E38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5F8DE-A1E5-4BCF-BE7C-81A90FC2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1902-8C45-4930-ABAC-2B8EA72F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D2B10-7F68-4C7B-AFC7-340AE3D2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D0F9B-8963-4C40-B99F-AFB9FF2C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10525-78EB-4CEE-BD6B-829D0FEC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D5B10-E9D5-4408-96EC-FA3AABDE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81B1C-06FE-4F69-B8F3-01AF0F2B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22812-9A21-46C4-B988-DEAC0CC9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87C45-EE52-4952-99D7-FB211891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5E430-6D9B-4AFB-B913-F0ECF50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621CB-253C-48B3-B538-608CFF5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75F1D-72E5-4AFF-848F-61EA81A6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5425-5AD1-4B1C-8F28-C2C7DEC3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4148A-7B2A-4703-BA1B-6E12151A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D50F6-277B-4359-A940-50C0B634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0A2DF-FC78-46C0-8446-59502E04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ABAC2-3A05-4701-BFED-F732888A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BE4BC-69B5-4E41-8019-0AC742F9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684E8-3655-404C-8C11-D2E8116A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077EE-C65C-421E-A880-FCC3A412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DD0A2-5153-4510-9782-671CF3BB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0F47D-8CAB-4A0E-90FD-468AF33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4F6FF-A85A-4081-856E-1B309A5E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EBB-094A-4671-93C3-AAD9B243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D355-296C-46FC-9872-6CA4FA1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4EA5F-C5AA-4B1B-B097-1BB2CA6A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9B5C1-1F26-46D0-A990-1FDD72C4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3BDF7-409A-4D68-AD85-486CA9CF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F00B6-7C08-4A55-9D5E-C0B281D9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2CFD6-FDEB-481E-958B-F367A59C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8DA76-F095-4936-91C1-B5F6A7C0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5ABE1-5327-45AF-8568-C9A12FAB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438FD-D686-4230-AAD9-D9F1B08E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51442-3C27-4D0F-BD3F-2E4E9C96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3545A-42E5-415F-9C2D-B4A8A50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5CFD-2EC3-4BD2-9131-A10C60C7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C53F9-A6A2-453E-AE52-A0048F90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73ABF-6386-4B1E-A612-7A2B4EC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6680B-277C-4125-B661-941286D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246A5-6873-443E-BB8D-0F5BB48F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C0B1C-9F7D-46B4-BD1A-7FD62023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E7077F-FD00-4C0C-B20C-B8A3A6E0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7F9D3-918D-4A31-BB7B-C3C074AC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80F2A-0977-4E18-A2BB-65DEACF1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32829-2B90-4FD2-9E85-5CDFD714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E4B5E-A4D5-4653-BEEB-DBD584FE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C323-CEBA-4C2B-B22B-3A7996C6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3EC51-05CB-4F36-9AED-6EC699B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26BDD-C6BB-477D-BF32-0163C89C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C91E8-1B6A-4375-901D-D02CE6A7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97AB8-830C-4B15-9F52-F04F76FF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28FFE-7111-4A53-A7EA-87C2BA8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7ABA6-600B-48BE-9FB5-B29A20D4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A5F55-E2E3-488E-AC64-E4CDE62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E68D0-769D-48DB-9466-C4642313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ECD38-F395-4D50-8C41-34605EBB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8E7FE-7E89-4188-865A-F0A24E5D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F0E4-6D37-4EE4-8218-3EDFA44D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A3D89-410C-495D-B478-5A947C48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949B0-59FF-4678-AE20-B8A6AFC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E4818-B16B-49E8-B6F2-33B92D95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787E23-F737-42EF-B3D5-7A2A4C0C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133361-E82A-40B0-AE5E-E04BE7B7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8B4F7-73E3-4E90-8E42-12045413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A388D-BF3A-4914-9E9A-014FA16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5FEC57-A14E-4B42-B399-D079DA40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276DC6-8F16-4E4E-AB00-47F0BBD7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CB458-F568-4B78-B55D-BC052030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7FC2-2C02-4378-BE4C-A5E069B6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8BDC8-324D-4287-B904-78AF8D13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136BC-420A-4067-98CD-7453566F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CA6F8C-C249-4E1F-ABC2-D2DE867F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53B9AD-DC38-4165-B6E7-38DB5807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544629-64F4-4EFB-83AD-D6C3B8F7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36BD03-EC18-42C7-890A-A4C6B2AC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5ACC61-0D85-42C5-BF6F-4642E85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66D44-01BC-4926-A22B-F0C6C3FF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75F5A-6EC2-4A27-852E-BD24F9B4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CD3532-C5DA-4F9F-8EF3-A15F3D8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43D1-3B42-4A30-8424-AF86F2E2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05DEFF-A21D-45CD-BC20-DB911AF1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EA11E-6D2C-4A18-9B95-1489AB4B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95834-6706-4C3C-9339-1ED175BC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C114-9EDC-4C00-BEFC-0D45F901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4B71-D5F6-404B-8B2B-89A2B12A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34655-ABBA-43AA-A061-1C1B9B6C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4DBD-0371-4A32-A633-E6909AA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621-E966-41AD-99AE-C5AA0602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2682-D894-4D4E-9CC4-493FDEF1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80A8-A679-470C-AB05-87FC81B0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24C3-9B55-41A1-9993-AFD5B663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F549-464B-4FEE-B035-012F976D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C78A-5719-4DD2-9EB3-D701E64F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CE1A-B63B-4DC4-BF71-8BA8F633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6540-C65D-4FED-B96A-BAA76AFD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818A9-234F-48C8-9A45-AAC48499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D1D3-201B-4E38-B31B-5D3E7FB2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F8AAC-A104-427A-B6ED-3BCE7176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232-15B7-404B-8FCD-A0858F9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8E12-E797-48DC-B711-7790CF9E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1A67-F5CB-493D-8FDE-708C3811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0BDC-8345-43BF-B151-C7B845F2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B87D-546C-4C18-8F00-7071F10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8FCA-FCB5-4D4C-A90B-4014C1EA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3FD6-00CF-47DA-BA8C-7D88D8B9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8C78-96BC-45BD-B94F-D7C35CBC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063E-5C26-4006-87C6-F30570F6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360F-250E-4166-A6D5-4099A288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28690-3761-4205-8D1E-FABBC3A6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CEB-0C04-4D20-9204-29463668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FAE56-8FF9-4442-841E-5DE37C9A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DCA51-3901-4923-AE5D-5D7B9597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A085-7EA9-434B-8683-6434CA45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78C53-2811-4F82-AF37-F39A9921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D221-C54A-4575-A095-E7685A49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E35A-F174-4DC4-B157-86BB2E9E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A3E8-44AA-46B8-83AD-58B20DA7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C770-AE4C-4CB7-9C24-5A501F7E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1648-8EEE-4C48-9401-A4C6875A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07358-5727-47A4-B5AE-B1720340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641-4A5D-42DE-A910-F0EA4B64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08B2E-6392-4B05-9931-F14E4ECA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01F8A-912C-47ED-9BFA-CE0C292D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A6F0-9C1C-424F-B5C8-07B1F729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8853-54BD-46C5-A69B-53880D2B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A8980-68F1-4D8E-809C-A92DFC59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C17F0-3FE8-4E27-8970-ACA93787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4A5A9-A72B-4D9E-A091-6269B41A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4A1A1-B47D-4F39-A6CA-954C2DF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39328-2257-4C2A-8F13-43302890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E2908-35DC-4570-92EB-8B730632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4AB-75EB-404D-B9A5-5327B04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A845E-B504-4C06-B3B2-48256642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3ACD-5513-4F42-8CC6-D7552127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C9C39-BC90-4A5F-820E-BE1E31E8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00E9F-D1D1-4B65-8301-EE0582CF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FE8E5-18C0-4C13-B2D4-D4C89DEA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0B7B1-97BD-4600-BD00-DCA407C3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8587-9BCE-4F40-9823-EEA6697F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14944-7DE4-48A4-9BBE-FD28B9DB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FE637-2FF5-4F36-BDC3-33C75A00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6E88E-0F65-45CE-ACE3-D6F1474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9DB-6219-4203-A6E7-6EC9595E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0FFD2-B3C1-445A-8BEE-6331E596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1C427-FFBD-4853-8E3E-CB3B5732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0F80B-5956-4959-AD95-345C230F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C264-32F4-460F-A57F-774CF7EF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A264-BB13-4166-9483-73E75AB7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34CB5-1E88-4698-BD66-2A8C9015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7E453-D9A3-4F61-AB81-8E231074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7044F-0D59-4709-A0E7-25468A84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5C308-CD92-4FD9-9940-DDAE2F11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DBA3-A3FA-4D55-91AC-806A94B5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AAB-D9C6-477D-95CF-C659541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7397C-DBE4-476D-8258-6AC1094E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94B46-0AB3-43CB-8689-77F00ED8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C0731-4970-49CA-BFB1-C71CBACE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F6794-0CA8-4A3D-8D00-CB7EDAE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7E3FC-A56E-4451-B9DF-A508BEAA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1472B-6DEE-45B1-9AE3-E53F7D1F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CBC88-C438-425B-A59B-2263178C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D8EDD-3284-4C2E-896A-8506A09C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F4D47-9292-4E90-82B8-66FC9610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691EA-5827-4F76-9CCF-E64323ED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BDBF-4DE5-4785-B7A3-6AF3E69AA7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357A-D92A-43E8-A413-E164FA6454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2C4D-C019-445F-AAF2-199CE2D226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A343-7D79-45AF-B4BD-B85330ABF1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DDFA-1C05-4AF0-B9F3-D87A3CA38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C3D4-AF53-4039-A562-697FC0D04D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C6F3-C99D-49ED-8808-B60A04A84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A8A-F084-4F98-A666-50BA4B80F1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37EE-3187-48D1-9B7D-9E34CEDF68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A4EC-273D-4F7F-9217-5931F65F3C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1D26-F803-401E-9409-4226EF7E2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9AD4-9DE4-4963-BBD3-B66113858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5692-5FD9-4AEF-AF3D-CED4D88E4A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AEB1-7125-4D9D-AE71-933B48CF0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9FCF-133F-41B8-8487-171ACB7AC5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04AE-9F52-48ED-AF15-118BECCA39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C536-12EF-4D9A-AC76-33B5647562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9EAA-46D7-4F88-A983-020D142EB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B9DC-B03F-46AB-8171-6AE8A85F1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4389-35B4-4B31-9AAA-138B3DAE5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5D99-73E7-4A31-9D96-8C7693DADC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22FB-B2CA-4C95-84E9-CE492C9313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B8BF-011B-48B7-B483-206F6C5E5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75B8-9B0A-4067-A14E-E30E7E0C16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3D40-5C0C-4D01-9540-7C4A28959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9374-9ECE-4C23-98C7-0B3B8AF89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9335-0E01-471B-8BCF-07A24DF6F2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8043-41D6-4D4C-981B-9E285E2A07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109A-49EF-4592-8CAA-26BD1C65B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B518-D486-4779-A569-DAB54A2013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65E7-ABF5-4299-B589-25642AF218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A63E-407F-4A04-A6C9-37C6426D8C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4631-2ED9-4FE2-A1DC-AED01DCB8C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A57-94F8-47DD-968E-01BA1288C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FF3F-D650-4900-BC25-420D57D728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3B58-6B0A-4CD8-83D0-E8971ACFC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DCA9-AD69-44E0-8500-FE17FB194D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3AF9-8C78-4587-9121-2917E3456E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8125-8689-48D2-8348-D546455127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63D-2A22-4B0B-9E00-14A6B1BB1A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2462040" y="3071880"/>
            <a:ext cx="42199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79873" descr=""/>
          <p:cNvPicPr/>
          <p:nvPr/>
        </p:nvPicPr>
        <p:blipFill>
          <a:blip r:embed="rId1"/>
          <a:stretch/>
        </p:blipFill>
        <p:spPr>
          <a:xfrm>
            <a:off x="485640" y="1938240"/>
            <a:ext cx="8172720" cy="2981520"/>
          </a:xfrm>
          <a:prstGeom prst="rect">
            <a:avLst/>
          </a:prstGeom>
          <a:ln w="0">
            <a:noFill/>
          </a:ln>
        </p:spPr>
      </p:pic>
      <p:sp>
        <p:nvSpPr>
          <p:cNvPr id="1059" name="矩形 79874"/>
          <p:cNvSpPr/>
          <p:nvPr/>
        </p:nvSpPr>
        <p:spPr>
          <a:xfrm>
            <a:off x="4606920" y="4437000"/>
            <a:ext cx="75708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79875"/>
          <p:cNvSpPr/>
          <p:nvPr/>
        </p:nvSpPr>
        <p:spPr>
          <a:xfrm>
            <a:off x="6330960" y="4446720"/>
            <a:ext cx="75708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78849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72720" cy="25812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78850" descr=""/>
          <p:cNvPicPr/>
          <p:nvPr/>
        </p:nvPicPr>
        <p:blipFill>
          <a:blip r:embed="rId2"/>
          <a:stretch/>
        </p:blipFill>
        <p:spPr>
          <a:xfrm>
            <a:off x="1042920" y="4365720"/>
            <a:ext cx="7648560" cy="952560"/>
          </a:xfrm>
          <a:prstGeom prst="rect">
            <a:avLst/>
          </a:prstGeom>
          <a:ln w="0">
            <a:noFill/>
          </a:ln>
        </p:spPr>
      </p:pic>
      <p:sp>
        <p:nvSpPr>
          <p:cNvPr id="1063" name="矩形 78851"/>
          <p:cNvSpPr/>
          <p:nvPr/>
        </p:nvSpPr>
        <p:spPr>
          <a:xfrm>
            <a:off x="3359160" y="3795840"/>
            <a:ext cx="4316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8852"/>
          <p:cNvSpPr/>
          <p:nvPr/>
        </p:nvSpPr>
        <p:spPr>
          <a:xfrm>
            <a:off x="1806480" y="4919760"/>
            <a:ext cx="43200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77825" descr=""/>
          <p:cNvPicPr/>
          <p:nvPr/>
        </p:nvPicPr>
        <p:blipFill>
          <a:blip r:embed="rId1"/>
          <a:stretch/>
        </p:blipFill>
        <p:spPr>
          <a:xfrm>
            <a:off x="490680" y="2109960"/>
            <a:ext cx="8162640" cy="2638080"/>
          </a:xfrm>
          <a:prstGeom prst="rect">
            <a:avLst/>
          </a:prstGeom>
          <a:ln w="0">
            <a:noFill/>
          </a:ln>
        </p:spPr>
      </p:pic>
      <p:sp>
        <p:nvSpPr>
          <p:cNvPr id="1066" name="矩形 77826"/>
          <p:cNvSpPr/>
          <p:nvPr/>
        </p:nvSpPr>
        <p:spPr>
          <a:xfrm>
            <a:off x="5607000" y="3789360"/>
            <a:ext cx="693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7827"/>
          <p:cNvSpPr/>
          <p:nvPr/>
        </p:nvSpPr>
        <p:spPr>
          <a:xfrm>
            <a:off x="1530360" y="4322880"/>
            <a:ext cx="693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76801" descr=""/>
          <p:cNvPicPr/>
          <p:nvPr/>
        </p:nvPicPr>
        <p:blipFill>
          <a:blip r:embed="rId1"/>
          <a:stretch/>
        </p:blipFill>
        <p:spPr>
          <a:xfrm>
            <a:off x="519120" y="1104840"/>
            <a:ext cx="8105760" cy="4648320"/>
          </a:xfrm>
          <a:prstGeom prst="rect">
            <a:avLst/>
          </a:prstGeom>
          <a:ln w="0">
            <a:noFill/>
          </a:ln>
        </p:spPr>
      </p:pic>
      <p:sp>
        <p:nvSpPr>
          <p:cNvPr id="1069" name="矩形 76802"/>
          <p:cNvSpPr/>
          <p:nvPr/>
        </p:nvSpPr>
        <p:spPr>
          <a:xfrm>
            <a:off x="6816600" y="3252960"/>
            <a:ext cx="851040" cy="30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76803"/>
          <p:cNvSpPr/>
          <p:nvPr/>
        </p:nvSpPr>
        <p:spPr>
          <a:xfrm>
            <a:off x="2711520" y="4292640"/>
            <a:ext cx="8506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76804"/>
          <p:cNvSpPr/>
          <p:nvPr/>
        </p:nvSpPr>
        <p:spPr>
          <a:xfrm>
            <a:off x="3851280" y="4797360"/>
            <a:ext cx="85104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89089" descr=""/>
          <p:cNvPicPr/>
          <p:nvPr/>
        </p:nvPicPr>
        <p:blipFill>
          <a:blip r:embed="rId1"/>
          <a:stretch/>
        </p:blipFill>
        <p:spPr>
          <a:xfrm>
            <a:off x="509760" y="1123920"/>
            <a:ext cx="81244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90113" descr=""/>
          <p:cNvPicPr/>
          <p:nvPr/>
        </p:nvPicPr>
        <p:blipFill>
          <a:blip r:embed="rId1"/>
          <a:stretch/>
        </p:blipFill>
        <p:spPr>
          <a:xfrm>
            <a:off x="638280" y="861840"/>
            <a:ext cx="7867440" cy="5134320"/>
          </a:xfrm>
          <a:prstGeom prst="rect">
            <a:avLst/>
          </a:prstGeom>
          <a:ln w="0">
            <a:noFill/>
          </a:ln>
        </p:spPr>
      </p:pic>
      <p:sp>
        <p:nvSpPr>
          <p:cNvPr id="1074" name="矩形 90115"/>
          <p:cNvSpPr/>
          <p:nvPr/>
        </p:nvSpPr>
        <p:spPr>
          <a:xfrm>
            <a:off x="7556400" y="901800"/>
            <a:ext cx="8510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90116"/>
          <p:cNvSpPr/>
          <p:nvPr/>
        </p:nvSpPr>
        <p:spPr>
          <a:xfrm>
            <a:off x="1384200" y="1425600"/>
            <a:ext cx="6667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90117"/>
          <p:cNvSpPr/>
          <p:nvPr/>
        </p:nvSpPr>
        <p:spPr>
          <a:xfrm>
            <a:off x="6384960" y="3006720"/>
            <a:ext cx="6667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90118"/>
          <p:cNvSpPr/>
          <p:nvPr/>
        </p:nvSpPr>
        <p:spPr>
          <a:xfrm>
            <a:off x="2155680" y="4044960"/>
            <a:ext cx="14083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90119"/>
          <p:cNvSpPr/>
          <p:nvPr/>
        </p:nvSpPr>
        <p:spPr>
          <a:xfrm>
            <a:off x="2241720" y="4578480"/>
            <a:ext cx="11062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90120"/>
          <p:cNvSpPr/>
          <p:nvPr/>
        </p:nvSpPr>
        <p:spPr>
          <a:xfrm>
            <a:off x="7537320" y="5102280"/>
            <a:ext cx="6350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9113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5629320"/>
          </a:xfrm>
          <a:prstGeom prst="rect">
            <a:avLst/>
          </a:prstGeom>
          <a:ln w="0">
            <a:noFill/>
          </a:ln>
        </p:spPr>
      </p:pic>
      <p:sp>
        <p:nvSpPr>
          <p:cNvPr id="1081" name="矩形 91138"/>
          <p:cNvSpPr/>
          <p:nvPr/>
        </p:nvSpPr>
        <p:spPr>
          <a:xfrm>
            <a:off x="5337000" y="3664080"/>
            <a:ext cx="5050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3114360" cy="76212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6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467560" cy="30672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7"/>
          <p:cNvSpPr/>
          <p:nvPr/>
        </p:nvSpPr>
        <p:spPr>
          <a:xfrm>
            <a:off x="2987640" y="220500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4502160" y="220500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2359080" y="265284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3530520" y="310032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4930920" y="310032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7550280" y="310032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3063960" y="355752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4"/>
          <p:cNvSpPr/>
          <p:nvPr/>
        </p:nvSpPr>
        <p:spPr>
          <a:xfrm>
            <a:off x="2397240" y="399564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75"/>
          <p:cNvSpPr/>
          <p:nvPr/>
        </p:nvSpPr>
        <p:spPr>
          <a:xfrm>
            <a:off x="6804000" y="4005360"/>
            <a:ext cx="10810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76"/>
          <p:cNvSpPr/>
          <p:nvPr/>
        </p:nvSpPr>
        <p:spPr>
          <a:xfrm>
            <a:off x="7121520" y="444348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8077"/>
          <p:cNvSpPr/>
          <p:nvPr/>
        </p:nvSpPr>
        <p:spPr>
          <a:xfrm>
            <a:off x="1476360" y="4869000"/>
            <a:ext cx="4316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8078"/>
          <p:cNvSpPr/>
          <p:nvPr/>
        </p:nvSpPr>
        <p:spPr>
          <a:xfrm>
            <a:off x="2987640" y="4869000"/>
            <a:ext cx="50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87041" descr=""/>
          <p:cNvPicPr/>
          <p:nvPr/>
        </p:nvPicPr>
        <p:blipFill>
          <a:blip r:embed="rId1"/>
          <a:stretch/>
        </p:blipFill>
        <p:spPr>
          <a:xfrm>
            <a:off x="347760" y="2090880"/>
            <a:ext cx="8448480" cy="2676240"/>
          </a:xfrm>
          <a:prstGeom prst="rect">
            <a:avLst/>
          </a:prstGeom>
          <a:ln w="0">
            <a:noFill/>
          </a:ln>
        </p:spPr>
      </p:pic>
      <p:sp>
        <p:nvSpPr>
          <p:cNvPr id="1038" name="矩形 87042"/>
          <p:cNvSpPr/>
          <p:nvPr/>
        </p:nvSpPr>
        <p:spPr>
          <a:xfrm>
            <a:off x="4473720" y="3481560"/>
            <a:ext cx="774720" cy="30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87043"/>
          <p:cNvSpPr/>
          <p:nvPr/>
        </p:nvSpPr>
        <p:spPr>
          <a:xfrm>
            <a:off x="6816600" y="3957480"/>
            <a:ext cx="77472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6017" descr=""/>
          <p:cNvPicPr/>
          <p:nvPr/>
        </p:nvPicPr>
        <p:blipFill>
          <a:blip r:embed="rId1"/>
          <a:stretch/>
        </p:blipFill>
        <p:spPr>
          <a:xfrm>
            <a:off x="333360" y="1414440"/>
            <a:ext cx="8477280" cy="4029120"/>
          </a:xfrm>
          <a:prstGeom prst="rect">
            <a:avLst/>
          </a:prstGeom>
          <a:ln w="0">
            <a:noFill/>
          </a:ln>
        </p:spPr>
      </p:pic>
      <p:sp>
        <p:nvSpPr>
          <p:cNvPr id="1041" name="矩形 86018"/>
          <p:cNvSpPr/>
          <p:nvPr/>
        </p:nvSpPr>
        <p:spPr>
          <a:xfrm>
            <a:off x="8159760" y="1967040"/>
            <a:ext cx="4316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6019"/>
          <p:cNvSpPr/>
          <p:nvPr/>
        </p:nvSpPr>
        <p:spPr>
          <a:xfrm>
            <a:off x="5597640" y="3281400"/>
            <a:ext cx="4316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84993" descr=""/>
          <p:cNvPicPr/>
          <p:nvPr/>
        </p:nvPicPr>
        <p:blipFill>
          <a:blip r:embed="rId1"/>
          <a:stretch/>
        </p:blipFill>
        <p:spPr>
          <a:xfrm>
            <a:off x="328680" y="942840"/>
            <a:ext cx="8486640" cy="4972320"/>
          </a:xfrm>
          <a:prstGeom prst="rect">
            <a:avLst/>
          </a:prstGeom>
          <a:ln w="0">
            <a:noFill/>
          </a:ln>
        </p:spPr>
      </p:pic>
      <p:sp>
        <p:nvSpPr>
          <p:cNvPr id="1044" name="矩形 84994"/>
          <p:cNvSpPr/>
          <p:nvPr/>
        </p:nvSpPr>
        <p:spPr>
          <a:xfrm>
            <a:off x="6168960" y="1967040"/>
            <a:ext cx="43200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4995"/>
          <p:cNvSpPr/>
          <p:nvPr/>
        </p:nvSpPr>
        <p:spPr>
          <a:xfrm>
            <a:off x="2463840" y="3738600"/>
            <a:ext cx="6681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84996"/>
          <p:cNvSpPr/>
          <p:nvPr/>
        </p:nvSpPr>
        <p:spPr>
          <a:xfrm>
            <a:off x="5892840" y="3719520"/>
            <a:ext cx="6238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4997"/>
          <p:cNvSpPr/>
          <p:nvPr/>
        </p:nvSpPr>
        <p:spPr>
          <a:xfrm>
            <a:off x="2092320" y="4186080"/>
            <a:ext cx="46368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4998"/>
          <p:cNvSpPr/>
          <p:nvPr/>
        </p:nvSpPr>
        <p:spPr>
          <a:xfrm>
            <a:off x="5283360" y="5072040"/>
            <a:ext cx="65700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4999"/>
          <p:cNvSpPr/>
          <p:nvPr/>
        </p:nvSpPr>
        <p:spPr>
          <a:xfrm>
            <a:off x="853920" y="5529240"/>
            <a:ext cx="65736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83969" descr=""/>
          <p:cNvPicPr/>
          <p:nvPr/>
        </p:nvPicPr>
        <p:blipFill>
          <a:blip r:embed="rId1"/>
          <a:stretch/>
        </p:blipFill>
        <p:spPr>
          <a:xfrm>
            <a:off x="514440" y="909720"/>
            <a:ext cx="8115120" cy="5038560"/>
          </a:xfrm>
          <a:prstGeom prst="rect">
            <a:avLst/>
          </a:prstGeom>
          <a:ln w="0">
            <a:noFill/>
          </a:ln>
        </p:spPr>
      </p:pic>
      <p:sp>
        <p:nvSpPr>
          <p:cNvPr id="1051" name="矩形 83970"/>
          <p:cNvSpPr/>
          <p:nvPr/>
        </p:nvSpPr>
        <p:spPr>
          <a:xfrm>
            <a:off x="4264200" y="3100320"/>
            <a:ext cx="4316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82945" descr=""/>
          <p:cNvPicPr/>
          <p:nvPr/>
        </p:nvPicPr>
        <p:blipFill>
          <a:blip r:embed="rId1"/>
          <a:stretch/>
        </p:blipFill>
        <p:spPr>
          <a:xfrm>
            <a:off x="490680" y="781200"/>
            <a:ext cx="8162640" cy="5295600"/>
          </a:xfrm>
          <a:prstGeom prst="rect">
            <a:avLst/>
          </a:prstGeom>
          <a:ln w="0">
            <a:noFill/>
          </a:ln>
        </p:spPr>
      </p:pic>
      <p:sp>
        <p:nvSpPr>
          <p:cNvPr id="1053" name="矩形 82946"/>
          <p:cNvSpPr/>
          <p:nvPr/>
        </p:nvSpPr>
        <p:spPr>
          <a:xfrm>
            <a:off x="7740720" y="1844640"/>
            <a:ext cx="4316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81921" descr=""/>
          <p:cNvPicPr/>
          <p:nvPr/>
        </p:nvPicPr>
        <p:blipFill>
          <a:blip r:embed="rId1"/>
          <a:stretch/>
        </p:blipFill>
        <p:spPr>
          <a:xfrm>
            <a:off x="538200" y="1095480"/>
            <a:ext cx="8067600" cy="4667040"/>
          </a:xfrm>
          <a:prstGeom prst="rect">
            <a:avLst/>
          </a:prstGeom>
          <a:ln w="0">
            <a:noFill/>
          </a:ln>
        </p:spPr>
      </p:pic>
      <p:sp>
        <p:nvSpPr>
          <p:cNvPr id="1055" name="矩形 81922"/>
          <p:cNvSpPr/>
          <p:nvPr/>
        </p:nvSpPr>
        <p:spPr>
          <a:xfrm>
            <a:off x="7816680" y="1662120"/>
            <a:ext cx="43200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80897" descr=""/>
          <p:cNvPicPr/>
          <p:nvPr/>
        </p:nvPicPr>
        <p:blipFill>
          <a:blip r:embed="rId1"/>
          <a:stretch/>
        </p:blipFill>
        <p:spPr>
          <a:xfrm>
            <a:off x="509760" y="1700280"/>
            <a:ext cx="8124480" cy="3457440"/>
          </a:xfrm>
          <a:prstGeom prst="rect">
            <a:avLst/>
          </a:prstGeom>
          <a:ln w="0">
            <a:noFill/>
          </a:ln>
        </p:spPr>
      </p:pic>
      <p:sp>
        <p:nvSpPr>
          <p:cNvPr id="1057" name="矩形 80898"/>
          <p:cNvSpPr/>
          <p:nvPr/>
        </p:nvSpPr>
        <p:spPr>
          <a:xfrm>
            <a:off x="5092560" y="2776680"/>
            <a:ext cx="43200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9:17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